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0937-420F-4BF1-AD52-D7724496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28E-1C55-4BB1-BD88-E9D26AB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1694-3FE1-4829-8AA9-D875471F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7A47-A987-409A-B6DA-98A2768D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51B1B-17FA-4C8C-BA82-DADF501F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6019-8030-41C4-9456-097DB14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7A1C0-3E0B-415A-AA9E-C9445ED3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9631A-DC9A-472D-ACF2-A8B811B3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F39D-DC8E-4030-8B7C-B30712F5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B571B-1AEC-47D7-B8AA-12DBEFFE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AD054-53CB-45A6-AF3B-9817CFCF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03B21-FD54-45B7-AD45-F1F15A2C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AAF-7455-470A-ADD6-550BEE2E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70042-0A98-48DE-A44A-9FEDA34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5ED6D-4CDA-4789-B66B-11A6251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D972C-83B3-4B0B-BC74-CB6C287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7C6E1-6506-4BEA-AA44-FCB41836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F83D7-7DB2-4A25-8152-212634CC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19745-9AE6-46AA-A847-5CCEF97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B11EA-8020-42D7-A8E8-BA2508F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A790-D1EC-483D-9408-034CDEB4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6EAB2-4028-4774-B7AB-9EFAA26E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AA08C-8016-4EE4-B923-6111F2E0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4FD-3D49-4A60-BDE8-F608EF7A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D8981-36C8-47EE-B898-3570E530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E4CD-C602-4B91-A963-D079BE6C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DD47-9496-490F-94AF-EEAEC22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91779-9145-472F-86C1-67EA7DE3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9F92-EB01-45B0-BD46-DB681AA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00615-7275-401B-A10A-E07E1AA9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BAF21-497C-4288-99C5-39D8C11F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7CC6E-29E5-4F82-86A0-6FF4C81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EE78C-E8C8-4678-A518-8E9827F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AF0DE-C1D5-4FFF-A94F-8B009BB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AE99-CAA0-4D0B-AFB4-547D2CDD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76D8D-815C-4A8C-AB6D-4B3DE5C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62DBC-429B-4D0E-9BAF-F691581D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BE2C-5948-49DF-8E96-DC43AE6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0B048-FBA2-45DC-9EBC-09FFA7DC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2975-0A7E-4DCE-BB7A-66A5ED7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EC8D6-CDFD-446A-917D-9C3A6F06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083B-5373-416F-9D4D-23BC9004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33BE-C480-4E39-A2A1-599E7BB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573B-5624-4483-90C6-34276CD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09C1-C16E-48D5-B665-6D968AD0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E0E-74F7-4210-8640-9C17BAD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0A0A9-C785-44EA-8288-0D3CD95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2A6C4-5D09-48DC-9B05-43810C0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17ECC-F173-438F-853B-8B654F19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09514-440B-4A54-A724-FB7DC834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B924-CFDA-4D25-A2A4-09D13A52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94428-55B3-4515-A68E-A828E1F5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2818B-94A1-45F1-B30B-F64EBACF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43192-9176-4948-8A74-33794EA4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8C13A-F8A9-4FEF-8AF7-8ADF1BC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454F5-62E9-40F7-9346-B55103F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C38-9C88-4F4E-8002-FDD602D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C61DB-7745-4070-A5B9-5D7ED3B8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D9119-5E03-4C49-AD5C-F0C21A4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1592E-1CDE-408F-8D54-B0DA1BC2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DAFEC-B85D-4554-B48E-E79ECEC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D0447-6A46-4342-9CC1-D527FA49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DF262-4E95-417C-8A0F-EB1784F6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6F633-82BB-466F-9B24-73BEFD13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447B1-56EE-4552-89F6-8BAF15E2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AF1780-10B4-4494-9806-FEBBB610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C6E91-3C19-47A0-81E2-1F0879FF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C5A-168C-46FF-A934-1FA8F21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ADC09-20E3-4584-8DC7-596CEF06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D40F2-69AC-4422-AD36-0ACFD8B4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3FF21-5ED2-49E5-80E9-5BEC313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5C66-34AD-450D-9CE6-687EB2DE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99F10-2744-4C11-95D3-6C54CC89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8BBAB-C786-4239-87FC-292263A6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0435F-E44F-4513-9C89-54CA739C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680EE-1015-4A79-8DB1-A3934449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0E324-ECD0-4A7C-B2A7-9D92202D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FA4D7-4362-4A17-A439-CAF2A449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04F2-D7C9-47BE-AFFB-99F4153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474FD-49A6-4B7F-B5A1-41974A7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BB7A7-C405-446C-BB42-162E3AA5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C5BC5-32AE-4BB1-944A-619255BE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51DEA-C042-4A6E-AF12-9BAB2E45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99739-FE0F-4521-AB9E-E86BD9B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DB45D-3ED5-4CB3-941E-A4DEE43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2DB61-0976-4F81-B552-C31F796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C3075-A725-490C-BA5A-31E7675B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2ED3C-BDDE-44CD-BB34-B23D6FC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977D0-AE89-4284-B1AD-489200B5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9C6-280D-4CB4-9A5C-00AE66FB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A1E49-B63A-4B78-A30A-60F2E278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1559B-C0F1-4191-AB21-E455E624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AC05F-8675-439F-B901-4B046C1D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C19B0-917E-4D32-B0DA-AF9F270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63301-FC82-4976-9508-A6984ED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8B874-C63C-4074-B223-330CF45A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517C2-1B3C-4ADF-A265-7B0CB21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0A57B-FC26-409F-8206-51A9A478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265B7-4C1F-4FC6-841A-697FE39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AEDCE-7E92-4751-81B3-75FDA1D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BC4-9A52-44D1-BDB3-87E49FD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EEC3B0-970F-40EC-BA81-F6C0DFCC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70786-E0C8-4FD8-852A-E9324501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71CEE-B1BB-4F72-8897-A364B611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86F83-9D7D-44A6-BA1D-87F0E3F4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6AE5EA-88A8-4A12-B6D7-EE4832EE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76D9F-8911-40E4-9360-1AA64413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BF3F4-51E3-4BBB-93E8-BB4616F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E308C-89E0-462A-9AA8-28B28FD0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D1AEE-8D5A-415D-B06C-3ECDC9C0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C6E0D-D128-41FB-8754-BD0B219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A35-65C3-4D74-975D-576E49AC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F05D-5CF6-46D0-80A8-B1D7734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80072-F94B-4288-8875-C3F3D050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E9542-84DC-4C22-AADF-C107351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3C9FD1-6C25-4120-847A-31D75500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353C4-13DF-4217-A724-B81A39C1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18FE6-F7A9-4B0B-B896-2E3433E6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9F5E2-CB30-4A13-A654-63C796BE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79386-B78E-4F19-BC1D-92E094CB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BEA7E-05BC-4B21-9CAE-BB5ECA3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C94ED-2070-4F87-B4E2-9392E47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2934E-CB20-499D-8B12-3942AE56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C40-762C-4EB8-8724-C6FB367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F2BD3-6989-42C3-B5C8-405A35CB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4A5F4-0B2A-4CCB-93FB-A046A76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C0209-2E81-412F-8B12-EE989A41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0600DE-FB7E-4B17-95CB-B56C0BC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44B2D8-59B9-4A4F-A1EB-5F424D2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AA64E-9399-49D0-8135-9B72E338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CFA00D-C6BC-4A7B-9B34-DC922FD7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7370E-1419-46F3-89B0-E47FF5B9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55F7D-0405-4201-BDF4-91EF978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BCF57-DB52-4B7B-8BE0-4A6CB3F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0F0E-6647-4BB8-BBD4-6E769787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326FB-BB8C-46A4-A95D-1C5C3F2B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DD423-4211-4064-BBF2-BEF9AD0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9D0B3-9079-4974-A799-18136E01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8BD24-78EC-4EFB-BBA2-68AD2CCF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9FC03-0D65-48B8-8041-3F440316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AE196B-53AC-4B2A-BAA0-D68FA9D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E072A9-990F-40B8-887A-60CBA1F6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20CCA-DC22-4725-9D91-74AF415B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87BDD-33A9-4BB1-9697-84341522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FD4C3-C74B-4850-9D2D-F287447C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165-7FAC-4705-8133-5DC697B4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A282BB-38B7-4A4D-A27A-088F180D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61B1B-D5D4-4A7D-8587-EF48AB02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8E829D-4577-473A-AB3B-3E3CCAEA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F61D3-8E12-4E13-ACB5-119D116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B6B6C-3AA7-465D-A728-7C9DC8F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E3C1C-5886-449B-930B-80B877F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2881F6-7F68-45CB-83DE-F435D2B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709D9-DEDB-4BD7-943F-B7CA2726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195572-91F3-435B-8A7C-0B0EA8F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A8E30-11A5-4939-801E-76B471A5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7C88-EB85-44B7-ACDF-145B784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F8A07-347D-4782-A4BF-3E05A4B1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AD138-F56C-4646-BF6F-89FCE86B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9E708-4826-43C2-BD83-760746BE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702F6E-8DB9-4AA6-ABE1-FC2A773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0C846A-D728-4E0B-939E-52D7C86F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06CA54-1564-4651-8A61-0DD6C33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73FD7-F377-42F4-8882-04F2698F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8CC12-9B66-432A-BA4A-B7C5D02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08CB48-F7F1-4F36-AC25-162DDA5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26A52-FBB4-4A73-8720-09025E31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86B5-2241-42D4-9B95-8ED3631C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E599A-5E41-49B9-BB5A-17D8E0F0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DA7F5-F63B-4CA5-B573-A51A1639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AD195-26E8-4010-94C4-894EB82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B3FF-3BA2-4F83-9E87-D81BE8DB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DD08-2F28-4F5A-ACD2-8917E3F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76F3-DBB4-4B90-A2D5-93CC36DB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86BF-A084-4641-8F81-BE410577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73E-AEFF-4B0A-9C75-EFD2B89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CA2B-04A6-458F-8137-2E8D7E3F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836B-85BB-4A10-97F4-A077FCE6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D6A7-B569-4952-820E-8B06D08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5244D-7108-420E-A436-86F883D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2F6C-EB0E-45E5-880B-9696BE95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D2A8-501C-4755-AF26-906F58E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751AB-B97F-4205-A90E-F3CB3C4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AD3A-6ACD-4518-A9CF-1368C679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D311-0640-4EA4-854A-FAEE739A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CEB8-E1E5-44C9-BDDE-97F730A6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4D8-F2FF-48E3-B047-1DD34CA7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E02D-A6C4-483E-9D00-E5184A08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94E7-F494-4852-AD81-34353C6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2523F-59D1-4109-B8D1-E3A78E7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2794-43E8-4CE9-9C9D-6836DAE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C048-1D58-4F8D-88DF-08820DC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83AB-EFE5-4C5D-B9C7-3868BDF5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B33E-3C12-45D9-8833-F033803B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6976-2A7C-48F5-ADAD-239D7197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6CD36-F161-487E-B481-94CE36BA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2B184-AE96-4888-A06C-37704CFC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FD6-C738-4C06-8982-112FCB3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C46EE-91B4-48E9-86C4-94315D4C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7309-6BE3-4313-8547-E89D96C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4BEB-C856-4C1C-ACB7-8D261E9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4693E-8E31-477B-954A-389C6891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3032-62EC-4FCD-A8E1-68ED406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C189-FAA7-47EC-B005-4F08217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DDEA-E986-4D3E-B47A-1788791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B562-87B5-4885-962A-8F84C5B6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8F879-E9BA-46B9-899F-B30D0E8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4EBE6-6782-4363-B297-AF4E8246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E2A-DA22-4F08-9F21-0AD47E6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50EC-F32B-4762-90D7-893FBE09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85EBF-BFBA-4393-976F-C4EC40C6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3B50-8388-4CBB-BD8E-AFF829BC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D2EFC-7E36-47BD-87C0-0E962A9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E06B0-7BDE-42AE-ACF7-DC2C8A8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9328-745B-4ECF-B6EA-897E9B9E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DE6BF-1A14-4629-9B79-64C880E5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3DAA9-644B-4B62-AE1C-3A0A148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3DB90-EC13-4B47-9BDA-28A879E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5F55-D589-430E-A109-741FBBE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34A-3FFD-4078-83DC-905D909F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E092B-E72B-4683-9BB1-6E124C3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B048-0F83-499D-B9A6-F5CBEC16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D1F8-D6FA-4029-BF6E-8A3E6A49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B856A-77CF-47E9-92D9-C8827826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09DA-3BEA-49AC-9541-EF7DC8FD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B3E59-CEBF-4EC9-A63B-01385D1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7BE48-2FC1-43F8-94E7-550379ED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63026-2DA4-4CA5-AF97-BA00E30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E889-9BDE-4417-BFBA-B90029BC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FF02A-57BF-47E1-A4E9-F96D702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EA7-5989-4651-BAC0-6EC8F576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B5E7-2057-4AF7-A70E-234E4C1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E2170-1C5F-4D35-B81C-1A2A1E1B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826D-7B8C-41BB-882F-728F3C95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DA81-908A-4B7B-BDFE-A2AFEE45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3354-F0EA-4122-BE73-6D2D2C0D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C296-75FD-4CAE-B345-A4B9C43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17CE2-62CC-45E1-B15F-A09E515A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98F1-BFA0-4A1F-871E-941A9E44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8220F-D368-4F7E-84F3-F6548C9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F61F-9C42-40FB-9177-126F3ED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58F-3E28-4BBC-826C-DED74E2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75FFF-D59E-440A-ACE3-C2307651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1B83B-7535-416F-A238-7A4F0BE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7E01-3D92-45C4-9642-8575A9B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9E772-0C89-4ED3-85EE-713CCC7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5F4E-863D-4896-A91B-E8FDFBC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A012E-36CF-4F85-B77D-4DA3CDB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CE130-7DBF-4E25-BBA3-095074D0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E9C06-275F-42BB-9708-4C7EE238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20F2A-6139-4A38-9604-94EA0E3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02B52-8083-426C-9AF0-D6CDFE6D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CCD-BA8A-4A36-ABD9-2639037A1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E0E7-9DF9-4957-8E05-83BF3A2773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7BA-8264-4646-A509-677BD03E8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C5A-484E-405E-B45C-632B33286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5922-A107-4974-9BFB-E1B846F512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0A48-ED7F-4AF4-A6C5-96323C2A4E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D018-F1A8-465C-8D7A-F0C816203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B73-89B5-45CD-8707-7EFCFBEC3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423-E7DF-4578-A8D8-6B4900989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FC98-9E61-4048-9D64-92F619B19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04B-C5F9-4A84-93BB-C45E989BAE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825C-E828-4C81-A99A-D11A62DC3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2173-2063-43F9-9D91-E97FF02504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5EB-A4A4-48AF-8B5E-0DED939321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689-CC4E-4C10-8311-CFA706685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BA41-D851-40C3-9210-9A8B83FCA3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8A3C-21B7-475D-B5FF-9E122022E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CD6-6A7D-4536-BE18-F5A15CACF5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74D7-8A25-4076-8322-F6E27C955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7EC1-AB37-4A36-AC23-DFFA060BA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DE9-E004-4864-8059-4E8EB06910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909-7463-40DF-A023-38CED3722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FAA-9135-471D-A358-99F0DB0AE9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ED9D-5F00-4756-87D1-E4EEB64678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1F9A-50E0-4A32-B1E1-6CF10365B0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7B7C-FFB0-4F96-A2B3-098A1F85F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471-AFE1-4321-A0BD-27EC0E5A14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629A-544A-42C2-AE52-7A267E130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9314-98DD-4298-A3A2-C7DD7D75B0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EF38-755E-4C6A-A6D8-9FF1207F4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958B-5E2E-4610-8688-6489205FA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D145-B082-4ED1-9A59-A0557BF529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1C1E-A0DE-4584-BE7D-DD235272EF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AE0-0628-48B8-8EF9-E6FA313CB0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70E-6029-446E-A96B-4B41C03A1F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571C-1E74-4FAC-8CB2-9223E734E8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44C7-9B43-4426-B096-3489CE24B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945A-2D0F-4206-8B03-CEACAF983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100-7AD5-4EC0-BD3A-A09EEDD4DB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837-279E-4C96-B6AE-216081C326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7.png"/><Relationship Id="rId8" Type="http://schemas.openxmlformats.org/officeDocument/2006/relationships/image" Target="../media/image14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2560" y="3160800"/>
            <a:ext cx="8880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23840" y="1071720"/>
            <a:ext cx="8896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03280" y="21034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258920" y="33433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156360" y="31701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16000" y="4638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199200" y="46386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5122" descr=""/>
          <p:cNvPicPr/>
          <p:nvPr/>
        </p:nvPicPr>
        <p:blipFill>
          <a:blip r:embed="rId1"/>
          <a:stretch/>
        </p:blipFill>
        <p:spPr>
          <a:xfrm>
            <a:off x="533520" y="1619280"/>
            <a:ext cx="8076960" cy="3619440"/>
          </a:xfrm>
          <a:prstGeom prst="rect">
            <a:avLst/>
          </a:prstGeom>
          <a:ln w="0">
            <a:noFill/>
          </a:ln>
        </p:spPr>
      </p:pic>
      <p:sp>
        <p:nvSpPr>
          <p:cNvPr id="1037" name="直接连接符 5123"/>
          <p:cNvSpPr/>
          <p:nvPr/>
        </p:nvSpPr>
        <p:spPr>
          <a:xfrm>
            <a:off x="2340000" y="2492280"/>
            <a:ext cx="352728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5124"/>
          <p:cNvSpPr/>
          <p:nvPr/>
        </p:nvSpPr>
        <p:spPr>
          <a:xfrm flipV="1">
            <a:off x="2700360" y="2565000"/>
            <a:ext cx="3240000" cy="57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5125"/>
          <p:cNvSpPr/>
          <p:nvPr/>
        </p:nvSpPr>
        <p:spPr>
          <a:xfrm>
            <a:off x="2700360" y="3789360"/>
            <a:ext cx="3240000" cy="1152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5126"/>
          <p:cNvSpPr/>
          <p:nvPr/>
        </p:nvSpPr>
        <p:spPr>
          <a:xfrm flipV="1">
            <a:off x="2311560" y="3141720"/>
            <a:ext cx="362880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5127"/>
          <p:cNvSpPr/>
          <p:nvPr/>
        </p:nvSpPr>
        <p:spPr>
          <a:xfrm flipV="1">
            <a:off x="3348000" y="4365720"/>
            <a:ext cx="2592360" cy="5745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30320" y="927000"/>
            <a:ext cx="8885160" cy="5437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6147" descr=""/>
          <p:cNvPicPr/>
          <p:nvPr/>
        </p:nvPicPr>
        <p:blipFill>
          <a:blip r:embed="rId3"/>
          <a:stretch/>
        </p:blipFill>
        <p:spPr>
          <a:xfrm>
            <a:off x="3794040" y="2795760"/>
            <a:ext cx="1368360" cy="52992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6148" descr=""/>
          <p:cNvPicPr/>
          <p:nvPr/>
        </p:nvPicPr>
        <p:blipFill>
          <a:blip r:embed="rId4"/>
          <a:stretch/>
        </p:blipFill>
        <p:spPr>
          <a:xfrm>
            <a:off x="3794040" y="3543480"/>
            <a:ext cx="2290680" cy="529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1116000" y="35877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1116000" y="437976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6151" descr=""/>
          <p:cNvPicPr/>
          <p:nvPr/>
        </p:nvPicPr>
        <p:blipFill>
          <a:blip r:embed="rId7"/>
          <a:stretch/>
        </p:blipFill>
        <p:spPr>
          <a:xfrm>
            <a:off x="3822840" y="4307040"/>
            <a:ext cx="2189160" cy="5299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1116000" y="50990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6153" descr=""/>
          <p:cNvPicPr/>
          <p:nvPr/>
        </p:nvPicPr>
        <p:blipFill>
          <a:blip r:embed="rId9"/>
          <a:stretch/>
        </p:blipFill>
        <p:spPr>
          <a:xfrm>
            <a:off x="3808440" y="5070600"/>
            <a:ext cx="1987560" cy="530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1116000" y="5862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6155" descr=""/>
          <p:cNvPicPr/>
          <p:nvPr/>
        </p:nvPicPr>
        <p:blipFill>
          <a:blip r:embed="rId11"/>
          <a:stretch/>
        </p:blipFill>
        <p:spPr>
          <a:xfrm>
            <a:off x="3780000" y="5834160"/>
            <a:ext cx="18000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585720" y="1952640"/>
            <a:ext cx="7970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7:2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